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B2B-C77A-4A57-95D8-A17AEE12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ACE-278D-461A-8AA5-78863E7F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25B-3C96-4F2A-A09A-46FB40E0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800-E0E0-41F4-A624-37770115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12C-0DFB-4D02-9494-045F77E8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AC2-4324-4C97-82D6-3B69F3A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7DB-2558-4FA6-915F-5925A44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E69-B37B-43C3-BAD9-556F121C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CA3-D8E7-437B-ABAE-2E02895C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0C9-5573-4C47-AF0F-1211283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399-9A32-49C1-B4F1-688E34D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600-5321-4253-8F4B-75AC7A9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B0FF-42F5-41DC-B124-DCB143C2FC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857160" y="272880"/>
            <a:ext cx="7429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EXERCISES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00160" y="130032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εἰμι ἀποστολ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ι Ἰησουν τον κυριον ἡμων ἐβλεψ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τε ἁ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’ ἐκ των Φαρισαιων ἠκουσαν ταυτα και ἐθαυμαζον λεγοντες αὐτῳ∙ Μη και ἡμεις τυφλοι ἐσ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μονον δε, ἀλλ’ ἐγγιζομεν τῳ θεῳ δια του κυριου ἡμων Ἰησου Χριστου δι’ οὑ νυν την εἰρηνην μετα του θεου λαμβαν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 ἐλεγον∙ Οὑτος ἐστιν ὁ Χριστος, οἱ δε  ἐλεγον∙ Μη ἐκ της Γαλιλαιας ὁ Χριστο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Δαυιδ λεγει ὁτι Μακαριος ἐστιν ὁ ἀνθρωπος ᾡ ὁ θεος λογιζεται δικαιοσυνην χωρις ἐργων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ς ἡμερας ὁ λαος ἠν ἐν Αἰγυπτῳ καθως ἐλαλησεν ὁ θεος τῳ Ἀβραα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0160" y="1300320"/>
            <a:ext cx="89438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νησατο ὁ στρατιωτης λεγων∙ Μητι ἐγω Ἰουδαιος 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σμεν ἐν τῳ ἀληθινῳ, ἐν τῳ υἱῳ αὐτου Ἰησου Χριστῳ. οὑτος ἐστιν ὁ ἀληλθινος θεος και ζωη αἰων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ays to him, ‘I am the way, the truth and the life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late was sleeping on the other side of the sea of 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at I wrote to you, I bear witness in the presenc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be amazed because of this, because an hour is coming in which the dead will hear his v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2920" y="1143000"/>
            <a:ext cx="8943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εν δε ὁ Ἰησους∙ Ἀμην λεγω ὑμιν, πολλοι οὐκετι ἐχουσιν οἰκιαν ἠ ἀδελφους ἠ ἀδελφας ἠ τεκνα ἑνεκα ἐμου και ἑνεκα του εὐαγγελ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λην οὐτ’ ἀδελφη χωρις ἀδελφου οὐτ’ ἀδελφος χωρις ἀδελφης ἐν κυρι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ιδασκεν αὐτους λεγων ὁτι Αὐτος Δαυιδ λεγει αὐτον κυριον, και ποθεν αὐτου ἐστιν υἱ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πολυς ὀχλος ἠκουεν αὐ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ὁ Ἰησους ἐλεγεν αὐτῳ∙ Ὑπαγε. Και εὐθυς ἀνεβλεψεν και ἠκλουθει αὐτῳ ἐν τῃ ὁδ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μενοι δε κηρυσσετε λεγοντες ὁτι Ἐγγιζει ἡ βασιλεια των οὐρανων.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θως θελετε λαμβανειν ἀπο των ἀνθρωπων, ποιειτε αὐτοις ὁμοι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00160" y="1300320"/>
            <a:ext cx="894384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βλεπετε ταυτα, θαυμαζετε∙ ἐγγυς ἐστιν ἡ βασιλει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 ἐλεγον ὁτι Οὑτος ἐστιν, ἀλλοι ἐλεγον, Οὐχι, ἀλλα ὁμοιος αὐτῳ ἐστιν. ἐκεινος ἐλεγεν ὁτι Ἐγω εἰμ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he Sabbath the brothers were sleeping but the sisters were  giving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wise neither life nor death is outside of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ωρ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’s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done these things well; go in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late was amazed because that man did nothing evil but healed 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Exercises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85840" y="1085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6.3-6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ὗτός ἐστιν ὁ τέκ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ilder, carpenter, stonemas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υἱὸς τῆς Μαρίας καὶ ἀδελφὸς Ἰακώβου καὶ Ἰωσῆτ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ses (gen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Ἰούδα καὶ Σίμων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mon (gen.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ὶ οὐκ εἰσὶν αἱ ἀδελφαὶ αὐτοῦ ὧδε πρὸς ἡμᾶ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σκανδαλίζον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y were scandaliz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ῷ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ἔλεγεν αὐτοῖς ὁ Ἰησοῦς ὅτι Οὐκ ἔστιν προφήτης ἄτιμο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honoure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μὴ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ῇ πατρίδ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melan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καὶ ἐν τοῖς συγγενεῦσ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insme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ῦ καὶ ἐν τῇ οἰκίᾳ αὐτοῦ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οὐκ ἐδύνα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 was ab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ῖ ποιῆσαι οὐδεμ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none, no on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ύναμι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t of power, miracle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, εἰ μὴ ὀλίγ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ρώστ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ck, il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θεὶ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ying o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ς χεῖρ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nd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θεράπευσεν.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Gentium"/>
              </a:rPr>
              <a:t>6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καὶ ἐθαύμαζεν διὰ τὴν ἀπιστία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belie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ῶν. Καὶ περιῆγ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o abou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ὰς κώμ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llages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ύκλ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a circle, round abou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άσ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41:51Z</dcterms:created>
  <dc:creator>Sarah</dc:creator>
  <dc:description/>
  <dc:language>en-US</dc:language>
  <cp:lastModifiedBy>Sarah</cp:lastModifiedBy>
  <dcterms:modified xsi:type="dcterms:W3CDTF">2009-07-09T18:31:32Z</dcterms:modified>
  <cp:revision>24</cp:revision>
  <dc:subject/>
  <dc:title>Slide 1</dc:title>
</cp:coreProperties>
</file>